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71144"/>
        <c:axId val="16413227"/>
      </c:barChart>
      <c:catAx>
        <c:axId val="89771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3227"/>
        <c:crosses val="autoZero"/>
        <c:auto val="1"/>
        <c:lblAlgn val="ctr"/>
        <c:lblOffset val="100"/>
        <c:noMultiLvlLbl val="0"/>
      </c:catAx>
      <c:valAx>
        <c:axId val="16413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71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98F-68E9-4BBD-9A09-0FD49D49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3C2-37B7-4621-8BF5-406CCEE9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958-3B2B-4299-A7D8-C245CFC6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951-3FEC-4BFB-8056-68CBAA41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9D0-492D-4265-B65B-21E25E46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BAC-FDA7-42C2-A418-FEC65ECF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7D4-B6A3-4F92-9812-94A489E8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DC8-977B-4A57-8610-FED1F49C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4B8-46E3-45A9-9505-21386C04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AFD-F4FB-44BF-A211-D69A9E2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459-F446-479C-9301-14EE017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099-713C-4572-95AB-180C40CD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748A-E0CC-49BB-94CE-4D3A82F10A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