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568559"/>
        <c:axId val="83129220"/>
      </c:barChart>
      <c:catAx>
        <c:axId val="165685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29220"/>
        <c:crosses val="autoZero"/>
        <c:auto val="1"/>
        <c:lblAlgn val="ctr"/>
        <c:lblOffset val="100"/>
        <c:noMultiLvlLbl val="0"/>
      </c:catAx>
      <c:valAx>
        <c:axId val="831292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685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F564-946D-4EA7-B521-36AED7B8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B20E-9034-4076-A8C7-E0FECD47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C5CB-78BF-43C5-9500-39A49FC4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19BC-9534-4755-A213-241B0C49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E2A6-4F0E-4ADE-9148-96FBF7A5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2D15-163B-48BB-ACAC-42612316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DA66-BD5A-433A-B861-4C26409C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5884-2A55-4D65-A5A9-76CE390C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C13A-AA59-47D9-B9A5-DB4F9BE8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06E2-4EC1-4591-85BE-4F3CC226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482C-9F82-4ABA-850F-E5EFF697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8104-9AE9-4A27-830F-9F45682A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17119-FF1F-4152-B228-B4662CC02E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